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D24-5FFE-4A89-965C-6B2788B3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8089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640" y="3934800"/>
            <a:ext cx="8089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97E-25F1-42C7-981B-FA5E2D41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6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90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02D-3F64-4077-A487-02261408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190476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4200" y="190476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640" y="393480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393480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4200" y="393480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00E-076C-4396-A245-05323E06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8375-4091-40C8-B224-C95F3C65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548D-079E-4FA8-9216-960C25A3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83EB-5536-4480-945C-257A1E3B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DFA9-1BF2-4271-A510-576185B7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7010-3908-472A-B2EF-D2FFE40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1320" y="798120"/>
            <a:ext cx="59814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3178-8117-4BE5-AD07-2E291036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36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4605-D05A-4B5C-BB35-4A7C1AB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4AF-AA2C-465D-8394-9E9A38AD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390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1DE3-6C36-4A1D-8C08-B7A1F6F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640" y="3934800"/>
            <a:ext cx="8089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D454-E4B2-4DC1-BBA7-1BD1D03D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8089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3640" y="3934800"/>
            <a:ext cx="8089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5E29-7318-421D-B4A7-2EE7AE53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6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390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98E8-9006-4833-ABC8-2DC2F317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28920" y="190476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64200" y="190476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93640" y="393480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28920" y="393480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64200" y="393480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28D7-7D83-4028-8D4D-2D1D5CB4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43D-9AC3-40B0-83BA-80A852A5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71320" y="798120"/>
            <a:ext cx="59814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390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640" y="3934800"/>
            <a:ext cx="8089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8089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3640" y="3934800"/>
            <a:ext cx="8089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36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390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28920" y="190476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64200" y="190476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93640" y="393480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28920" y="393480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64200" y="393480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C76-1A33-4373-8B5C-26634023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71320" y="798120"/>
            <a:ext cx="59814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36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390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3934800"/>
            <a:ext cx="8089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8089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93640" y="3934800"/>
            <a:ext cx="8089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36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390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28920" y="190476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64200" y="190476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93640" y="393480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28920" y="393480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64200" y="3934800"/>
            <a:ext cx="260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FF6-1EDF-4827-BDDA-0BF6E0BD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1320" y="798120"/>
            <a:ext cx="59814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D98-5BBF-4A4D-87BF-C4E23E4E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6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909-DB54-4FEF-B182-2CB1E1BC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9040" y="393480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452-9AE6-4F33-B06E-0E8DB2C0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6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9040" y="1904760"/>
            <a:ext cx="3947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640" y="3934800"/>
            <a:ext cx="8089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FB4-3F79-42B3-81E2-E5F5CED0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A487-172A-43D7-8B1C-AD5DC47936E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781320" y="6495840"/>
            <a:ext cx="21337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40B3-13CA-4B20-BCC8-CC24735CB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375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375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8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1d1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571320" y="799920"/>
            <a:ext cx="59814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31" descr="PPT_bars"/>
          <p:cNvPicPr/>
          <p:nvPr/>
        </p:nvPicPr>
        <p:blipFill>
          <a:blip r:embed="rId2"/>
          <a:stretch/>
        </p:blipFill>
        <p:spPr>
          <a:xfrm>
            <a:off x="114480" y="5918040"/>
            <a:ext cx="8915400" cy="613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4" descr="NG_HWHFY_white"/>
          <p:cNvPicPr/>
          <p:nvPr/>
        </p:nvPicPr>
        <p:blipFill>
          <a:blip r:embed="rId3"/>
          <a:stretch/>
        </p:blipFill>
        <p:spPr>
          <a:xfrm>
            <a:off x="6810480" y="593640"/>
            <a:ext cx="180000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7890-5AA5-4211-88B2-B5CECDA6A22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781320" y="6495840"/>
            <a:ext cx="21337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C1C2-A08F-41C0-9A1A-7DA9F7EB3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375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375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2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1d1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4" descr="PPT_bars"/>
          <p:cNvPicPr/>
          <p:nvPr/>
        </p:nvPicPr>
        <p:blipFill>
          <a:blip r:embed="rId2"/>
          <a:stretch/>
        </p:blipFill>
        <p:spPr>
          <a:xfrm>
            <a:off x="114480" y="5918040"/>
            <a:ext cx="8915400" cy="61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NG_HWHFY_white"/>
          <p:cNvPicPr/>
          <p:nvPr/>
        </p:nvPicPr>
        <p:blipFill>
          <a:blip r:embed="rId3"/>
          <a:stretch/>
        </p:blipFill>
        <p:spPr>
          <a:xfrm>
            <a:off x="6810480" y="593640"/>
            <a:ext cx="180000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5"/>
          <p:cNvSpPr/>
          <p:nvPr/>
        </p:nvSpPr>
        <p:spPr>
          <a:xfrm>
            <a:off x="228600" y="228600"/>
            <a:ext cx="8686800" cy="5715000"/>
          </a:xfrm>
          <a:prstGeom prst="rect">
            <a:avLst/>
          </a:prstGeom>
          <a:solidFill>
            <a:srgbClr val="1d1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89" name="Picture 49" descr="PPT_bars"/>
          <p:cNvPicPr/>
          <p:nvPr/>
        </p:nvPicPr>
        <p:blipFill>
          <a:blip r:embed="rId2"/>
          <a:stretch/>
        </p:blipFill>
        <p:spPr>
          <a:xfrm>
            <a:off x="114480" y="6058080"/>
            <a:ext cx="8915400" cy="61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5" descr="NG_HWHFY_white"/>
          <p:cNvPicPr/>
          <p:nvPr/>
        </p:nvPicPr>
        <p:blipFill>
          <a:blip r:embed="rId3"/>
          <a:stretch/>
        </p:blipFill>
        <p:spPr>
          <a:xfrm>
            <a:off x="6810480" y="593640"/>
            <a:ext cx="1800000" cy="53352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77"/>
          <p:cNvGrpSpPr/>
          <p:nvPr/>
        </p:nvGrpSpPr>
        <p:grpSpPr>
          <a:xfrm>
            <a:off x="685800" y="2937960"/>
            <a:ext cx="2171880" cy="1715040"/>
            <a:chOff x="685800" y="2937960"/>
            <a:chExt cx="2171880" cy="1715040"/>
          </a:xfrm>
        </p:grpSpPr>
        <p:sp>
          <p:nvSpPr>
            <p:cNvPr id="92" name="Line 78"/>
            <p:cNvSpPr/>
            <p:nvPr/>
          </p:nvSpPr>
          <p:spPr>
            <a:xfrm flipH="1" flipV="1">
              <a:off x="685800" y="2937960"/>
              <a:ext cx="457200" cy="34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93" name="Line 79"/>
            <p:cNvSpPr/>
            <p:nvPr/>
          </p:nvSpPr>
          <p:spPr>
            <a:xfrm>
              <a:off x="2400480" y="4309920"/>
              <a:ext cx="457200" cy="34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94" name="Line 80"/>
            <p:cNvSpPr/>
            <p:nvPr/>
          </p:nvSpPr>
          <p:spPr>
            <a:xfrm flipH="1">
              <a:off x="685800" y="4309920"/>
              <a:ext cx="457200" cy="34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95" name="Line 81"/>
            <p:cNvSpPr/>
            <p:nvPr/>
          </p:nvSpPr>
          <p:spPr>
            <a:xfrm flipV="1">
              <a:off x="2400480" y="2937960"/>
              <a:ext cx="457200" cy="34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79c1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1028880" y="3182760"/>
              <a:ext cx="1439640" cy="124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ce your chosen image here. The four corners must just cover the arrow tips. For covers, the three pictures should be the same size and in a straight line.   </a:t>
              </a:r>
              <a:endParaRPr b="1" lang="en-US" sz="1000" spc="-1" strike="noStrike">
                <a:solidFill>
                  <a:srgbClr val="0079c1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375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375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71320" y="799920"/>
            <a:ext cx="59814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228600" y="228600"/>
            <a:ext cx="8686800" cy="5715000"/>
          </a:xfrm>
          <a:prstGeom prst="rect">
            <a:avLst/>
          </a:prstGeom>
          <a:solidFill>
            <a:srgbClr val="1d1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9c1"/>
              </a:solidFill>
              <a:latin typeface="Arial"/>
            </a:endParaRPr>
          </a:p>
        </p:txBody>
      </p:sp>
      <p:pic>
        <p:nvPicPr>
          <p:cNvPr id="136" name="Picture 12" descr="PPT_bars"/>
          <p:cNvPicPr/>
          <p:nvPr/>
        </p:nvPicPr>
        <p:blipFill>
          <a:blip r:embed="rId2"/>
          <a:stretch/>
        </p:blipFill>
        <p:spPr>
          <a:xfrm>
            <a:off x="114480" y="6058080"/>
            <a:ext cx="8915400" cy="61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7" descr="NG_HWHFY_white"/>
          <p:cNvPicPr/>
          <p:nvPr/>
        </p:nvPicPr>
        <p:blipFill>
          <a:blip r:embed="rId3"/>
          <a:stretch/>
        </p:blipFill>
        <p:spPr>
          <a:xfrm>
            <a:off x="6810480" y="593640"/>
            <a:ext cx="1800000" cy="533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37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375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375"/>
              </a:spcAft>
              <a:buClr>
                <a:srgbClr val="000000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571320" y="798120"/>
            <a:ext cx="5981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9"/>
          <p:cNvSpPr/>
          <p:nvPr/>
        </p:nvSpPr>
        <p:spPr>
          <a:xfrm>
            <a:off x="609480" y="5029200"/>
            <a:ext cx="7925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28, 2018</a:t>
            </a:r>
            <a:endParaRPr b="1" lang="en-US" sz="20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3640" y="1603440"/>
            <a:ext cx="79408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ical Submittal Requirements for DG Proj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4648320" y="2919240"/>
            <a:ext cx="3224160" cy="215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Picture 7" descr=""/>
          <p:cNvPicPr/>
          <p:nvPr/>
        </p:nvPicPr>
        <p:blipFill>
          <a:blip r:embed="rId2"/>
          <a:stretch/>
        </p:blipFill>
        <p:spPr>
          <a:xfrm>
            <a:off x="990720" y="2919240"/>
            <a:ext cx="32572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98176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 DESIGN SUBMITTAL 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781680" y="6496200"/>
            <a:ext cx="21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4305-E4FA-4B46-8B27-A9C9A9FE5958}" type="slidenum">
              <a:rPr b="1" lang="en-US" sz="1200" spc="-1" strike="noStrike">
                <a:solidFill>
                  <a:srgbClr val="0079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submittals are required for project developers to submit at different stages of the design and construction process to successfully deliver an Interconnection project and to avoid unnecessary del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hedule an initial site visit (this will only occur after 25% upgrade payment is received or 100% for upgrades under $10,000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 plan showing customer Interface pole, Meter pole (if changed from CES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or info - Generator Manufacturer’s Specifications(if changed from CESI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d Appendix B(if changed from CESI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line (with PE stamp if required) with comments addressed from CES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line – Follow information for one line (with PE stamp) with comments addressed from CES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98176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 DESIGN SUBMITTAL 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16761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art Utility design and create a final schedule (Post site visi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 arrangement drawings (PE stamped, first pole only at this po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zed locations of poles stak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Plan (no PE stamp y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781680" y="6496200"/>
            <a:ext cx="21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6C0B-A150-4ED8-AECB-8461E54BDE4F}" type="slidenum">
              <a:rPr b="1" lang="en-US" sz="1200" spc="-1" strike="noStrike">
                <a:solidFill>
                  <a:srgbClr val="0079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93640" y="16761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tart customer design/construction review , the following must be received and approved by the utility if changes occurred due to the CESIR result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stamped sit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stamped singl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stamped thre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stamped AC/DC elementary (if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stamped electrical assembly and profile draw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y settings (if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ive Device Coordination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equipment designations on draw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Aft>
                <a:spcPts val="1001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 cut sheets for all electrical equipment (transformer, grounding bank, recloser, fuses, switch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781680" y="6496200"/>
            <a:ext cx="21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6463-B59D-4666-9079-7E758F9F41AE}" type="slidenum">
              <a:rPr b="1" lang="en-US" sz="1200" spc="-1" strike="noStrike">
                <a:solidFill>
                  <a:srgbClr val="0079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79c1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365040"/>
            <a:ext cx="59814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UCTION STAGE SUBMITTAL 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794880"/>
            <a:ext cx="5981400" cy="52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ical Submitta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gin Company equipment construction on Customer premi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able surface (access r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hedule a Field Ver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mped and accepted final construction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781680" y="6496200"/>
            <a:ext cx="21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D9F6-31A7-4116-9223-116E7DA728DC}" type="slidenum">
              <a:rPr b="1" lang="en-US" sz="1200" spc="-1" strike="noStrike">
                <a:solidFill>
                  <a:srgbClr val="0079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320" y="794880"/>
            <a:ext cx="5981400" cy="52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ical Submitta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93640" y="1904760"/>
            <a:ext cx="808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hedule a Witness t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ed Field Verification/Engineering Insp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of Operations (SOO) , Energization Plan (EP) , Testing and Commissioning Plan (TCP), Maintenance Plan (MP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rmission to Operate to be issu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Witness test along with any necessary self certif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0079c1"/>
              </a:buClr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left settings for r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781680" y="6496200"/>
            <a:ext cx="2133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353D-3984-40F8-AD82-A0A507504350}" type="slidenum">
              <a:rPr b="1" lang="en-US" sz="1200" spc="-1" strike="noStrike">
                <a:solidFill>
                  <a:srgbClr val="0079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79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3:41:44Z</dcterms:created>
  <dc:creator>Lori Taraborelli</dc:creator>
  <dc:description/>
  <dc:language>en-US</dc:language>
  <cp:lastModifiedBy>Elizabeth Grisaru,EAG</cp:lastModifiedBy>
  <cp:lastPrinted>2017-05-31T09:23:13Z</cp:lastPrinted>
  <dcterms:modified xsi:type="dcterms:W3CDTF">2018-03-27T16:29:29Z</dcterms:modified>
  <cp:revision>157</cp:revision>
  <dc:subject/>
  <dc:title>Template instructions</dc:title>
</cp:coreProperties>
</file>